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A376-986C-46A7-B84C-9DB4A4A46C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68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689"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B1F4-AD70-4108-ACB7-F48558E2F6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0"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DCFD-BCA5-47EF-8048-4C92B485D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69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699"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1EDE-76E9-42C7-A6D4-A886F3E44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EA40C-7B55-4028-A1D9-4CEBE0493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A2F6-2590-47EB-BF2D-F16FB422A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927EEB7-7652-47D6-98E0-CFAC6131B8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3EC64E7-85D4-4C24-AD0E-2EF7303F9CB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AE76FCA-E45C-42E3-82D1-53DD6EFBF16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BA6C5A-B23C-4A30-8E45-FDC37091E1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3BB3C8C-1249-47F3-9815-39209701245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F5C029-B56C-4B2B-926D-AA9F14CB16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53046C7-75B2-4A43-B5C7-4813C9DCDAF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44CAA17-784E-472D-B908-70AAFC17F66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3B40B7A-828E-4A19-B462-F21D3079C64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9DFDB3D-8409-4299-87F9-FCD10AAF14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3ACB0-4F85-458F-A90B-BC43BF267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D732F3D-A43B-4967-A962-CF2B46A832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F045BF7-4A74-4CDD-96AD-0DAAD12DA0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5DE0EB4-6990-4F5D-8159-96F5986E2E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1654257-81EA-4B90-986E-602AD31583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60C183F-D68E-454A-BDF0-242995F95C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29FC1F-A099-4654-B175-3F7BE23C49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F55F526-EA22-49E6-B094-10AB060AC8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F2A49D4-0B76-45AA-9428-E6E0374A71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05910D1-2790-466E-8729-EAA24531BE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E0C98C9-DBA1-402F-880E-A0BF278CFF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4C23B-0D06-431A-8BCF-E0E2422BD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5EED55F-4C33-4F98-9F9E-6E8B122727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E80F5C-42D2-4932-8383-8524639968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0A4190-369F-4D71-A4A6-EDBC1CBF62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74E265-4B37-444E-83B7-2395C42545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B0DF1F-E352-48AC-B21E-83B3272707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EB1B8F-2D4E-4833-9C43-37535F6B9B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D582F1-6D9C-4FFF-851E-834FCFCE75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5EEBD0-A830-4C17-8F06-B6B6C34166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40D36D-47F4-4E01-9D85-C4A6212623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8C9BD2-4A93-41C6-BB2A-707D3400C8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468BD-583B-4486-B065-1BA84ED5C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CBEE2A-9304-4DEF-87DD-1463F51437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D666AF-46A5-4EB7-8EC7-0F15AE0F3D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17CACE-F549-46DD-A8A6-513F5A3762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98E8C4F-E19D-46C8-B68B-E5A8AF0A40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754CD2C-09F0-450D-A9E2-5E3064B922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314ECCB-6C1F-43D2-A56B-354D73A9B0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C819C0F-610A-411F-BCC8-F4152D07EE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1BD01FF-08AE-47D6-A691-843BBF4C76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104F8E0-3A1B-449C-9C97-3E2152E6FB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B551A96-108A-48D6-8F99-68C7D19096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546F9-12A0-4D15-87C2-671108735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5FA268A-4E13-4211-9375-F132F5FB6F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B6684A1-5484-47DD-85F7-18E3B2774C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CB10074-1EC0-447F-A3EF-EC5686CD79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ACB2FDA-D9C7-40EF-A488-BA266C7378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4EA4793-E9CA-4EC8-A810-9620F30428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A893C-CD38-45AA-94DA-F98FCBFFC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6CCBA-93BB-4742-9CC5-E66F122CD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C8D64-3BE8-45AE-9733-67BE83BFE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DB1BD-F2C4-4F30-8140-04406B74A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C95E0-1302-4939-9955-6255A798D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F08C9-2559-4813-9460-A35B2E49A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4A432-B62D-480F-A211-B78C19338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45CFB-FCA8-4543-9A6D-86940CF11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D409B-03AB-44DF-85A1-42F1CCCF8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C3299-5CB3-4D7F-9159-EBCB4E8E3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9AE42-75CF-4E86-9F21-D63BEAE7C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4BF98-0FD2-43A5-A4B3-2C157D542E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38605E-6211-4B8F-AF59-A43303394C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08FDEC-E5F8-43FF-A927-2BE3DD93B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16885-27DD-4ABA-BC4D-13859B7FE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AB5AD-0418-4166-A7FB-D3D66130A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AEFF0-3AEB-4CB2-B090-03B96DA47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591C65-C0FB-448E-AE13-D73185979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68E83-2B1B-4377-99D9-8A3BBEC27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7E56D-DBB6-4888-8EDB-D370AC67C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8CCBD-F4F7-4C63-BD2C-277F59BDD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FF9E6-04CC-445A-81BA-870FBD1C1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F7489A-696D-43EE-BEA5-A16CCFB267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4EC7D1-113F-4503-9846-7733A0C13E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2E4C1D9-698D-4423-8444-40F00D1233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0F6A16E-D69D-4765-961C-9A05EE2F15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04DA423-27A7-4FE4-8590-0B1A763CE8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59FC5-BECE-41BB-B329-1523015DC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621610D-CE72-41F6-B7AB-899CA14D64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D466005-9BB4-4F1F-936F-21284D060C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1572642-83C3-4633-9853-BC78A369D6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2D2108F-82D4-41BC-98F4-34CCEF8028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53E504-1FAF-427D-8C18-937D753D62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F2D828E-1A7D-4FFB-AA4D-F7EDC2EC8E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A92C011-1FEB-4AF2-B98B-3EB526A6DB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A199368-CA47-43E5-9E85-9170297BA6C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B495744-CE90-4841-A5C1-EDF60EBAE74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8E1621-8EC5-4BE0-BA2E-F877008388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C2EDB-6FD2-4B0E-B0E2-5BAFBC909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58A017-CA00-4C06-8384-B92369C25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4AA2E-B361-487E-8FFA-DB84A9CDA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D4B05-5AB5-49CE-8BD5-10EC9ED2EE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91491-71D0-4ECD-BC3A-489B6CF39C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5D35FF-28EE-4218-89EE-7C94A799E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F696BD-A00E-4CF5-A035-1BB8253D6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B2B45-5FB4-4C2F-8DDA-F6C972131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11546-6E5C-4C47-BF50-878B4996C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9D984-C665-4799-90CE-4721DF1758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565794-7A6A-48AA-B7B2-61DFCE417E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B7385-5111-481D-BF0F-DFFDC931E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E67872-43B4-423B-ACCD-D138CBE37D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4629F1-268B-49CB-B753-F030970A68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258211-4034-4AA7-A416-26ADD4884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44B0D2-615E-40F2-BFC3-5B1E740F6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623F7-E5A4-44B3-8120-32190B67C1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2F0259-28D3-440F-9DAE-06158842CB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3E428D-36DB-4228-BC8D-B2E7003E64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979BF-6B17-4744-A87F-353D527DC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ED20E-8A90-4B60-9E68-5872B43C8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65EE7-79C3-444C-A412-9746E28637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AEDA1-B3A4-4FBC-8E7C-7636FBB1E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2E99B-C93C-4AE4-859D-4A86D47EF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88A188-76D4-4B00-8E07-70CDB15078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D30B18-D628-40E7-857E-466D2B0294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4F7B25-A4F9-4694-A296-8768181F70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5A2725-1F54-4B11-AF69-D52C049C35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56446D-9539-460E-B1D3-3C897BD904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F5891B-1CC6-4AB5-A96E-487215A96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5E03AA-F08F-47E2-9DFD-19CF25EABA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869DBD-6346-44A7-B1FC-240C16524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E94550-52EB-4C50-9AC9-DF7F811A1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38C13-2AB6-47B7-90C8-6EDAAF68D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E8A18-C76B-48EB-81EB-0CA6D775FB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08F507-5BA8-4935-88E7-98857DF913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E5919C-E6FE-448D-BDF3-BD75F71669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EC1D89-3429-4E77-BC77-FBE763AF78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CC37EE-55C4-427B-88A2-4510749020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1F0428-5847-4D27-BFB3-B75CB9A83F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CC3AA-BF97-45CF-ACD7-E47D36E2A7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B568AD-F3DD-4D86-B35B-FD4EA4AF80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3B3972-8BA9-41EE-BEAA-B77778A5A8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9522A9-C5EF-481A-B218-EA2205D661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3FC0-AE8A-4134-A82E-7C0182B62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F9F1D-C533-4BF5-BB2B-BA02EE011F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28BB6-E29F-4E59-B7CD-428BAE6D3B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BFDB2D-5921-4DF9-8B98-1BD03EB5C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A97094-DBD6-47F5-83C2-10D3751381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A9D5C-E1AF-444F-B86A-BAB0BD70B7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B1F6BF-12A9-4F31-ADDC-8E4963F8C1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0B383-D368-4644-BE13-2F22AF93B7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39BEC0F-DFE4-4B12-B20E-C4E58775623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C2CCAB8-1FD5-4F42-9770-CEB1435C35D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E3027B2-3BAD-4A9C-9FBB-BB6C42832A0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3AF2-4A4E-4EF7-BBBC-D55EBF4A2E7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C7B4-F05C-4455-ADAF-F295E75F312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628A-5402-4E99-AA50-A3F4C1964F1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C75D-B73B-4154-B39F-0B4D4467BD9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5AFC-C41F-4053-82D1-16EAB3BABB3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8F76-A714-40DF-9AEA-2D067521092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53A5-2EDD-4DA3-AE84-440DBFAC6AD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626D-0CAF-4E74-A01D-D17E7F46850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77BA-F857-4C6D-A2E4-D7D882DF24C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13F5-6D98-4EF8-833B-1EF0D438178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4A9C-F7AF-42BE-8A3C-6BAC25219C77}"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9A5B-A95E-41B9-9356-79A5ACA905A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Cognos.trainer@gmail.com" TargetMode="External"/><Relationship Id="rId2" Type="http://schemas.openxmlformats.org/officeDocument/2006/relationships/hyperlink" Target="mailto:Cognos.trainer@Yahoo.com" TargetMode="External"/><Relationship Id="rId3" Type="http://schemas.openxmlformats.org/officeDocument/2006/relationships/hyperlink" Target="mailto:Cognos.trainer@skype.com" TargetMode="External"/><Relationship Id="rId4" Type="http://schemas.openxmlformats.org/officeDocument/2006/relationships/image" Target="../media/image8.jpeg"/><Relationship Id="rId5"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1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5" name="WordArt 8"/>
          <p:cNvSpPr txBox="1"/>
          <p:nvPr/>
        </p:nvSpPr>
        <p:spPr>
          <a:xfrm>
            <a:off x="2133720" y="2362320"/>
            <a:ext cx="4495680" cy="14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a3d6"/>
                  </a:solidFill>
                  <a:miter/>
                </a:ln>
                <a:solidFill>
                  <a:srgbClr val="b2b2b2">
                    <a:alpha val="50000"/>
                  </a:srgbClr>
                </a:solidFill>
                <a:effectLst>
                  <a:outerShdw dist="40186" dir="1096358" blurRad="0" rotWithShape="0">
                    <a:srgbClr val="9999ff"/>
                  </a:outerShdw>
                </a:effectLst>
                <a:latin typeface="Arial Black"/>
              </a:rPr>
              <a:t>Cognos TM1</a:t>
            </a:r>
            <a:endParaRPr b="0" lang="en-US" sz="1800" spc="1" strike="noStrike">
              <a:ln w="12600">
                <a:solidFill>
                  <a:srgbClr val="00a3d6"/>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16" name="WordArt 11"/>
          <p:cNvSpPr txBox="1"/>
          <p:nvPr/>
        </p:nvSpPr>
        <p:spPr>
          <a:xfrm>
            <a:off x="5029200" y="4038480"/>
            <a:ext cx="3352680" cy="990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atya</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Mobile: +91-8095001166</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Email:Cognos.trainer@gmail.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kype:Cognos.trainer@skype.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5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55" name="Rectangle 4"/>
          <p:cNvSpPr/>
          <p:nvPr/>
        </p:nvSpPr>
        <p:spPr>
          <a:xfrm>
            <a:off x="3336840" y="151560"/>
            <a:ext cx="2076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Tools</a:t>
            </a:r>
            <a:endParaRPr b="0" lang="en-US" sz="3000" spc="-1" strike="noStrike">
              <a:solidFill>
                <a:srgbClr val="000000"/>
              </a:solidFill>
              <a:latin typeface="Arial"/>
            </a:endParaRPr>
          </a:p>
        </p:txBody>
      </p:sp>
      <p:sp>
        <p:nvSpPr>
          <p:cNvPr id="656" name="Rectangle 5"/>
          <p:cNvSpPr/>
          <p:nvPr/>
        </p:nvSpPr>
        <p:spPr>
          <a:xfrm>
            <a:off x="228600" y="837360"/>
            <a:ext cx="8534520" cy="3682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 Viewer</a:t>
            </a:r>
            <a:endParaRPr b="0" lang="en-US" sz="1800" spc="-1" strike="noStrike">
              <a:solidFill>
                <a:srgbClr val="000000"/>
              </a:solidFill>
              <a:latin typeface="Arial"/>
            </a:endParaRPr>
          </a:p>
        </p:txBody>
      </p:sp>
      <p:pic>
        <p:nvPicPr>
          <p:cNvPr id="657" name="Picture 7" descr=""/>
          <p:cNvPicPr/>
          <p:nvPr/>
        </p:nvPicPr>
        <p:blipFill>
          <a:blip r:embed="rId1"/>
          <a:stretch/>
        </p:blipFill>
        <p:spPr>
          <a:xfrm>
            <a:off x="380880" y="1219320"/>
            <a:ext cx="8305920" cy="4981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5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60" name="Rectangle 4"/>
          <p:cNvSpPr/>
          <p:nvPr/>
        </p:nvSpPr>
        <p:spPr>
          <a:xfrm>
            <a:off x="3336840" y="151560"/>
            <a:ext cx="2076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Tools</a:t>
            </a:r>
            <a:endParaRPr b="0" lang="en-US" sz="3000" spc="-1" strike="noStrike">
              <a:solidFill>
                <a:srgbClr val="000000"/>
              </a:solidFill>
              <a:latin typeface="Arial"/>
            </a:endParaRPr>
          </a:p>
        </p:txBody>
      </p:sp>
      <p:sp>
        <p:nvSpPr>
          <p:cNvPr id="661" name="Rectangle 5"/>
          <p:cNvSpPr/>
          <p:nvPr/>
        </p:nvSpPr>
        <p:spPr>
          <a:xfrm>
            <a:off x="228600" y="607680"/>
            <a:ext cx="8534520" cy="19213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 Edi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ments pan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s a hierarchical representation of all elements in the subset you are currently viewin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pan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s the properties of the elements selected in the Elements pane of the Subset Editor. When you select a consolidated element, this pane displays the names, types, and weights of all children of the consolidated element.</a:t>
            </a:r>
            <a:endParaRPr b="0" lang="en-US" sz="1400" spc="-1" strike="noStrike">
              <a:solidFill>
                <a:srgbClr val="000000"/>
              </a:solidFill>
              <a:latin typeface="Arial"/>
            </a:endParaRPr>
          </a:p>
        </p:txBody>
      </p:sp>
      <p:pic>
        <p:nvPicPr>
          <p:cNvPr id="662" name="Picture 7" descr=""/>
          <p:cNvPicPr/>
          <p:nvPr/>
        </p:nvPicPr>
        <p:blipFill>
          <a:blip r:embed="rId1"/>
          <a:stretch/>
        </p:blipFill>
        <p:spPr>
          <a:xfrm>
            <a:off x="304920" y="2590920"/>
            <a:ext cx="8534160" cy="363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6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65" name="Rectangle 4"/>
          <p:cNvSpPr/>
          <p:nvPr/>
        </p:nvSpPr>
        <p:spPr>
          <a:xfrm>
            <a:off x="2628720" y="151560"/>
            <a:ext cx="3489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Components</a:t>
            </a:r>
            <a:endParaRPr b="0" lang="en-US" sz="3000" spc="-1" strike="noStrike">
              <a:solidFill>
                <a:srgbClr val="000000"/>
              </a:solidFill>
              <a:latin typeface="Arial"/>
            </a:endParaRPr>
          </a:p>
        </p:txBody>
      </p:sp>
      <p:sp>
        <p:nvSpPr>
          <p:cNvPr id="666" name="Rectangle 5"/>
          <p:cNvSpPr/>
          <p:nvPr/>
        </p:nvSpPr>
        <p:spPr>
          <a:xfrm>
            <a:off x="380880" y="914400"/>
            <a:ext cx="8534520" cy="17398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ns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icat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r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67" name="Picture 6" descr=""/>
          <p:cNvPicPr/>
          <p:nvPr/>
        </p:nvPicPr>
        <p:blipFill>
          <a:blip r:embed="rId1"/>
          <a:stretch/>
        </p:blipFill>
        <p:spPr>
          <a:xfrm>
            <a:off x="1523880" y="2666880"/>
            <a:ext cx="594360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
          <p:cNvSpPr/>
          <p:nvPr/>
        </p:nvSpPr>
        <p:spPr>
          <a:xfrm>
            <a:off x="2765520" y="151560"/>
            <a:ext cx="34542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a:t>
            </a:r>
            <a:r>
              <a:rPr b="1" lang="en-US" sz="1800" spc="-1" strike="noStrike">
                <a:solidFill>
                  <a:srgbClr val="a50021"/>
                </a:solidFill>
                <a:latin typeface="Arial"/>
              </a:rPr>
              <a:t> </a:t>
            </a:r>
            <a:r>
              <a:rPr b="1" lang="en-US" sz="3000" spc="-1" strike="noStrike">
                <a:solidFill>
                  <a:srgbClr val="a50021"/>
                </a:solidFill>
                <a:latin typeface="Verdana"/>
              </a:rPr>
              <a:t>Components</a:t>
            </a:r>
            <a:endParaRPr b="0" lang="en-US" sz="3000" spc="-1" strike="noStrike">
              <a:solidFill>
                <a:srgbClr val="000000"/>
              </a:solidFill>
              <a:latin typeface="Arial"/>
            </a:endParaRPr>
          </a:p>
        </p:txBody>
      </p:sp>
      <p:sp>
        <p:nvSpPr>
          <p:cNvPr id="669" name="Rectangle 3"/>
          <p:cNvSpPr/>
          <p:nvPr/>
        </p:nvSpPr>
        <p:spPr>
          <a:xfrm>
            <a:off x="228600" y="1143000"/>
            <a:ext cx="8686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Applicat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M1 application is a collection of other TM1 objects and files organized into logical, job-specific groupings. Excel files or cube views that are published to the Web are listed in the Applications folder as well as URL’s and other file types. Security can be managed on who will have access to the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Cub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dimensional databases that must be made up of at least 2 dimensions. Data is entered into a cube. Multiple cubes make up a model. You can expand each cube to view all the dimensions that make up that cu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Dimens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listed independently of the cubes so that developers can reuse and edit them quickly and eas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7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7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74" name="Rectangle 5"/>
          <p:cNvSpPr/>
          <p:nvPr/>
        </p:nvSpPr>
        <p:spPr>
          <a:xfrm>
            <a:off x="304920" y="1598760"/>
            <a:ext cx="8610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Replication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that copies cubes from one server to another, and may also have TM1 synchronize the updates among the copied cubes either at specific time intervals or on dem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Process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developers use Turbo Integrator to import data into cubes from data sources including ASCII files, ODBC, and other cub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Chor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es of processes may be assigned a schedule on which to run.</a:t>
            </a:r>
            <a:endParaRPr b="0" lang="en-US" sz="1800" spc="-1" strike="noStrike">
              <a:solidFill>
                <a:srgbClr val="000000"/>
              </a:solidFill>
              <a:latin typeface="Arial"/>
            </a:endParaRPr>
          </a:p>
        </p:txBody>
      </p:sp>
      <p:sp>
        <p:nvSpPr>
          <p:cNvPr id="675" name="Rectangle 2"/>
          <p:cNvSpPr/>
          <p:nvPr/>
        </p:nvSpPr>
        <p:spPr>
          <a:xfrm>
            <a:off x="2765520" y="151560"/>
            <a:ext cx="34542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a:t>
            </a:r>
            <a:r>
              <a:rPr b="1" lang="en-US" sz="1800" spc="-1" strike="noStrike">
                <a:solidFill>
                  <a:srgbClr val="a50021"/>
                </a:solidFill>
                <a:latin typeface="Arial"/>
              </a:rPr>
              <a:t> </a:t>
            </a:r>
            <a:r>
              <a:rPr b="1" lang="en-US" sz="3000" spc="-1" strike="noStrike">
                <a:solidFill>
                  <a:srgbClr val="a50021"/>
                </a:solidFill>
                <a:latin typeface="Verdana"/>
              </a:rPr>
              <a:t>Compon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7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graphicFrame>
        <p:nvGraphicFramePr>
          <p:cNvPr id="678" name=""/>
          <p:cNvGraphicFramePr/>
          <p:nvPr/>
        </p:nvGraphicFramePr>
        <p:xfrm>
          <a:off x="762120" y="1295280"/>
          <a:ext cx="7848360" cy="2381400"/>
        </p:xfrm>
        <a:graphic>
          <a:graphicData uri="http://schemas.openxmlformats.org/drawingml/2006/table">
            <a:tbl>
              <a:tblPr/>
              <a:tblGrid>
                <a:gridCol w="1523880"/>
                <a:gridCol w="6324480"/>
              </a:tblGrid>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Name </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Satya</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26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1"/>
                        </a:rPr>
                        <a:t>Cognos.trainer@gmail.com</a:t>
                      </a:r>
                      <a:endParaRPr b="0" lang="en-US" sz="23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2"/>
                        </a:rPr>
                        <a:t>Cognos.trainer@Yahoo.com</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Skype</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a3d6"/>
                          </a:solidFill>
                          <a:uFillTx/>
                          <a:latin typeface="Georgia"/>
                          <a:ea typeface="Arial"/>
                          <a:hlinkClick r:id="rId3"/>
                        </a:rPr>
                        <a:t>Cognos.trainer@skype.com</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Mobile</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ea typeface="Arial"/>
                        </a:rPr>
                        <a:t>+91-8095001166</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79" name="Picture 17" descr="email-symbol"/>
          <p:cNvPicPr/>
          <p:nvPr/>
        </p:nvPicPr>
        <p:blipFill>
          <a:blip r:embed="rId4"/>
          <a:stretch/>
        </p:blipFill>
        <p:spPr>
          <a:xfrm>
            <a:off x="914400" y="1905120"/>
            <a:ext cx="571680" cy="457200"/>
          </a:xfrm>
          <a:prstGeom prst="rect">
            <a:avLst/>
          </a:prstGeom>
          <a:ln w="0">
            <a:noFill/>
          </a:ln>
        </p:spPr>
      </p:pic>
      <p:sp>
        <p:nvSpPr>
          <p:cNvPr id="680" name="Rectangle 1064"/>
          <p:cNvSpPr/>
          <p:nvPr/>
        </p:nvSpPr>
        <p:spPr>
          <a:xfrm>
            <a:off x="182880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Contact Detail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3"/>
          <p:cNvSpPr/>
          <p:nvPr/>
        </p:nvSpPr>
        <p:spPr>
          <a:xfrm>
            <a:off x="304920" y="9144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8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84" name="WordArt 6"/>
          <p:cNvSpPr txBox="1"/>
          <p:nvPr/>
        </p:nvSpPr>
        <p:spPr>
          <a:xfrm>
            <a:off x="3657600" y="2514600"/>
            <a:ext cx="1609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solidFill>
                  <a:srgbClr val="ffffff"/>
                </a:solidFill>
                <a:effectLst>
                  <a:outerShdw dist="17819" dir="2700000" blurRad="0" rotWithShape="0">
                    <a:srgbClr val="808080">
                      <a:alpha val="80000"/>
                    </a:srgbClr>
                  </a:outerShdw>
                </a:effectLst>
                <a:latin typeface="Arial Black"/>
              </a:rPr>
              <a:t>Thanks</a:t>
            </a:r>
            <a:endParaRPr b="0" i="1" lang="en-US" sz="1800" spc="1" strike="noStrike">
              <a:ln w="9360">
                <a:solidFill>
                  <a:srgbClr val="008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11"/>
          <p:cNvSpPr/>
          <p:nvPr/>
        </p:nvSpPr>
        <p:spPr>
          <a:xfrm>
            <a:off x="1981080" y="228600"/>
            <a:ext cx="5197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Architecture</a:t>
            </a:r>
            <a:endParaRPr b="0" lang="en-US" sz="3000" spc="-1" strike="noStrike">
              <a:solidFill>
                <a:srgbClr val="000000"/>
              </a:solidFill>
              <a:latin typeface="Arial"/>
            </a:endParaRPr>
          </a:p>
        </p:txBody>
      </p:sp>
      <p:sp>
        <p:nvSpPr>
          <p:cNvPr id="61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pic>
        <p:nvPicPr>
          <p:cNvPr id="620" name="Picture 7" descr=""/>
          <p:cNvPicPr/>
          <p:nvPr/>
        </p:nvPicPr>
        <p:blipFill>
          <a:blip r:embed="rId1"/>
          <a:stretch/>
        </p:blipFill>
        <p:spPr>
          <a:xfrm>
            <a:off x="1871640" y="1038240"/>
            <a:ext cx="5400720" cy="47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2"/>
          <p:cNvSpPr/>
          <p:nvPr/>
        </p:nvSpPr>
        <p:spPr>
          <a:xfrm>
            <a:off x="2775600" y="151560"/>
            <a:ext cx="3481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Architecture</a:t>
            </a:r>
            <a:endParaRPr b="0" lang="en-US" sz="3000" spc="-1" strike="noStrike">
              <a:solidFill>
                <a:srgbClr val="000000"/>
              </a:solidFill>
              <a:latin typeface="Arial"/>
            </a:endParaRPr>
          </a:p>
        </p:txBody>
      </p:sp>
      <p:sp>
        <p:nvSpPr>
          <p:cNvPr id="622" name="Rectangle 3"/>
          <p:cNvSpPr/>
          <p:nvPr/>
        </p:nvSpPr>
        <p:spPr>
          <a:xfrm>
            <a:off x="228600" y="838080"/>
            <a:ext cx="8686800" cy="51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Admin Server </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Server</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Client </a:t>
            </a: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1.</a:t>
            </a:r>
            <a:r>
              <a:rPr b="1" lang="en-US" sz="1800" spc="-1" strike="noStrike">
                <a:solidFill>
                  <a:srgbClr val="000000"/>
                </a:solidFill>
                <a:latin typeface="Arial"/>
              </a:rPr>
              <a:t> </a:t>
            </a:r>
            <a:r>
              <a:rPr b="0" lang="en-US" sz="1800" spc="-1" strike="noStrike">
                <a:solidFill>
                  <a:srgbClr val="000000"/>
                </a:solidFill>
                <a:latin typeface="Arial"/>
              </a:rPr>
              <a:t>TM1 Servers register with the Admin Serv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2.</a:t>
            </a:r>
            <a:r>
              <a:rPr b="1" lang="en-US" sz="1800" spc="-1" strike="noStrike">
                <a:solidFill>
                  <a:srgbClr val="000000"/>
                </a:solidFill>
                <a:latin typeface="Arial"/>
              </a:rPr>
              <a:t> </a:t>
            </a:r>
            <a:r>
              <a:rPr b="0" lang="en-US" sz="1800" spc="-1" strike="noStrike">
                <a:solidFill>
                  <a:srgbClr val="000000"/>
                </a:solidFill>
                <a:latin typeface="Arial"/>
              </a:rPr>
              <a:t>TM1 clients contact the Admin Server and receive information about the TM1 Servers that are availabl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Step 3.</a:t>
            </a:r>
            <a:r>
              <a:rPr b="1" lang="en-US" sz="1800" spc="-1" strike="noStrike">
                <a:solidFill>
                  <a:srgbClr val="000000"/>
                </a:solidFill>
                <a:latin typeface="Arial"/>
              </a:rPr>
              <a:t> </a:t>
            </a:r>
            <a:r>
              <a:rPr b="0" lang="en-US" sz="1800" spc="-1" strike="noStrike">
                <a:solidFill>
                  <a:srgbClr val="000000"/>
                </a:solidFill>
                <a:latin typeface="Arial"/>
              </a:rPr>
              <a:t>After determining which servers are available, TM1 clients establish connections with TM1 Serv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min Server maintains the following information about each TM1 Serv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na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addr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numb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2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2"/>
          <p:cNvSpPr/>
          <p:nvPr/>
        </p:nvSpPr>
        <p:spPr>
          <a:xfrm>
            <a:off x="2775600" y="151560"/>
            <a:ext cx="3481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Architecture</a:t>
            </a:r>
            <a:endParaRPr b="0" lang="en-US" sz="3000" spc="-1" strike="noStrike">
              <a:solidFill>
                <a:srgbClr val="000000"/>
              </a:solidFill>
              <a:latin typeface="Arial"/>
            </a:endParaRPr>
          </a:p>
        </p:txBody>
      </p:sp>
      <p:sp>
        <p:nvSpPr>
          <p:cNvPr id="626" name="Rectangle 3"/>
          <p:cNvSpPr/>
          <p:nvPr/>
        </p:nvSpPr>
        <p:spPr>
          <a:xfrm>
            <a:off x="228600" y="838080"/>
            <a:ext cx="8686800" cy="53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1 Is </a:t>
            </a:r>
            <a:r>
              <a:rPr b="0" lang="en-US" sz="1800" spc="-1" strike="noStrike">
                <a:solidFill>
                  <a:srgbClr val="000000"/>
                </a:solidFill>
                <a:latin typeface="Arial"/>
              </a:rPr>
              <a:t>distributed, client-server architecture that consists of the TM1 Server  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3d6"/>
                </a:solidFill>
                <a:latin typeface="Arial"/>
              </a:rPr>
              <a:t>TM1 Clien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Perspectiv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Architec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Client (limited version of TM1 Perspectiv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Web clien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lient Server environment, corporate data resides on remote servers, which authorized clients can acce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clients communicate with a remote server using the TCP/IP network protoco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TM1 server starts, the server registers itself with an Admin Server that is running on a specified Admin Host. TM1 clients reference the Admin Server to determine which TM1 servers are available on the network.</a:t>
            </a:r>
            <a:endParaRPr b="0" lang="en-US" sz="1800" spc="-1" strike="noStrike">
              <a:solidFill>
                <a:srgbClr val="000000"/>
              </a:solidFill>
              <a:latin typeface="Arial"/>
            </a:endParaRPr>
          </a:p>
        </p:txBody>
      </p:sp>
      <p:sp>
        <p:nvSpPr>
          <p:cNvPr id="627"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28"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0"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31" name="Rectangle 2"/>
          <p:cNvSpPr/>
          <p:nvPr/>
        </p:nvSpPr>
        <p:spPr>
          <a:xfrm>
            <a:off x="2775600" y="151560"/>
            <a:ext cx="348156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Architecture</a:t>
            </a:r>
            <a:endParaRPr b="0" lang="en-US" sz="3000" spc="-1" strike="noStrike">
              <a:solidFill>
                <a:srgbClr val="000000"/>
              </a:solidFill>
              <a:latin typeface="Arial"/>
            </a:endParaRPr>
          </a:p>
        </p:txBody>
      </p:sp>
      <p:sp>
        <p:nvSpPr>
          <p:cNvPr id="632" name="Rectangle 7"/>
          <p:cNvSpPr/>
          <p:nvPr/>
        </p:nvSpPr>
        <p:spPr>
          <a:xfrm>
            <a:off x="273960" y="685800"/>
            <a:ext cx="886572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 Server must be running before a TM1 server can st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have specified an Admin Host in the Tm1s.cfg file or the server command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M1 server will attempt to connect toan Admin Server on that h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ou have not specified an Admin Host, the TM1 server attempts to connect to 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 Server on the local mach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dmin Server becomes aware of TM1 servers on the network by listening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fication from the ser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server sends notification of its presence at a regular interval called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 interval," which is 60 seconds by defa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Admin Server detects the TM1server, that server becomes registered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to clients on the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Admin Server does not detect the presence of a registered TM1 server over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equal to three times (180 Seconds) the heartbeat interval, that TM1 server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d from the list of servers available on the networ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7"/>
          <p:cNvSpPr/>
          <p:nvPr/>
        </p:nvSpPr>
        <p:spPr>
          <a:xfrm>
            <a:off x="167652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Data Directory</a:t>
            </a:r>
            <a:endParaRPr b="0" lang="en-US" sz="3000" spc="-1" strike="noStrike">
              <a:solidFill>
                <a:srgbClr val="000000"/>
              </a:solidFill>
              <a:latin typeface="Arial"/>
            </a:endParaRPr>
          </a:p>
        </p:txBody>
      </p:sp>
      <p:sp>
        <p:nvSpPr>
          <p:cNvPr id="63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5"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36" name="Rectangle 5"/>
          <p:cNvSpPr/>
          <p:nvPr/>
        </p:nvSpPr>
        <p:spPr>
          <a:xfrm>
            <a:off x="228600" y="914400"/>
            <a:ext cx="8686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directory contains the cubes, dimensions, and system information that are loaded into memory when a TM1 server is started. When you access a server from any TM1 client, TM1 reads data from that server's data direc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1 saves the data back to the data directory when any of the following occ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M1 server is shut d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istrator right-clicks a server icon in Server Explorer and choose Save Data from the pop-up menu. This directs TM1 to save the changes to the selected ser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ministrator chooses </a:t>
            </a:r>
            <a:r>
              <a:rPr b="1" lang="en-US" sz="1800" spc="-1" strike="noStrike">
                <a:solidFill>
                  <a:srgbClr val="000000"/>
                </a:solidFill>
                <a:latin typeface="Arial"/>
              </a:rPr>
              <a:t>File</a:t>
            </a:r>
            <a:r>
              <a:rPr b="0" lang="en-US" sz="1800" spc="-1" strike="noStrike">
                <a:solidFill>
                  <a:srgbClr val="000000"/>
                </a:solidFill>
                <a:latin typeface="Arial"/>
              </a:rPr>
              <a:t>, </a:t>
            </a:r>
            <a:r>
              <a:rPr b="1" lang="en-US" sz="1800" spc="-1" strike="noStrike">
                <a:solidFill>
                  <a:srgbClr val="000000"/>
                </a:solidFill>
                <a:latin typeface="Arial"/>
              </a:rPr>
              <a:t>Save Data All </a:t>
            </a:r>
            <a:r>
              <a:rPr b="0" lang="en-US" sz="1800" spc="-1" strike="noStrike">
                <a:solidFill>
                  <a:srgbClr val="000000"/>
                </a:solidFill>
                <a:latin typeface="Arial"/>
              </a:rPr>
              <a:t>in Server Explorer. This directs TM1 to save the changes to all the connected servers, if you have the proper autho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user saves the batch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8"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39" name="Rectangle 4"/>
          <p:cNvSpPr/>
          <p:nvPr/>
        </p:nvSpPr>
        <p:spPr>
          <a:xfrm>
            <a:off x="2371320" y="151560"/>
            <a:ext cx="4006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User Interfaces</a:t>
            </a:r>
            <a:endParaRPr b="0" lang="en-US" sz="3000" spc="-1" strike="noStrike">
              <a:solidFill>
                <a:srgbClr val="000000"/>
              </a:solidFill>
              <a:latin typeface="Arial"/>
            </a:endParaRPr>
          </a:p>
        </p:txBody>
      </p:sp>
      <p:sp>
        <p:nvSpPr>
          <p:cNvPr id="640" name="Rectangle 5"/>
          <p:cNvSpPr/>
          <p:nvPr/>
        </p:nvSpPr>
        <p:spPr>
          <a:xfrm>
            <a:off x="304920" y="549360"/>
            <a:ext cx="8534160" cy="17398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Archit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Perspectiv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be Viewe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t Edito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Web</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oIntegrato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41" name="Picture 7" descr=""/>
          <p:cNvPicPr/>
          <p:nvPr/>
        </p:nvPicPr>
        <p:blipFill>
          <a:blip r:embed="rId1"/>
          <a:stretch/>
        </p:blipFill>
        <p:spPr>
          <a:xfrm>
            <a:off x="609480" y="2666880"/>
            <a:ext cx="8077320" cy="3638520"/>
          </a:xfrm>
          <a:prstGeom prst="rect">
            <a:avLst/>
          </a:prstGeom>
          <a:ln w="0">
            <a:noFill/>
          </a:ln>
        </p:spPr>
      </p:pic>
      <p:sp>
        <p:nvSpPr>
          <p:cNvPr id="642" name="Rectangle 7"/>
          <p:cNvSpPr/>
          <p:nvPr/>
        </p:nvSpPr>
        <p:spPr>
          <a:xfrm>
            <a:off x="307080" y="2286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Archit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4"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45" name="Rectangle 4"/>
          <p:cNvSpPr/>
          <p:nvPr/>
        </p:nvSpPr>
        <p:spPr>
          <a:xfrm>
            <a:off x="3336840" y="151560"/>
            <a:ext cx="2076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Tools</a:t>
            </a:r>
            <a:endParaRPr b="0" lang="en-US" sz="3000" spc="-1" strike="noStrike">
              <a:solidFill>
                <a:srgbClr val="000000"/>
              </a:solidFill>
              <a:latin typeface="Arial"/>
            </a:endParaRPr>
          </a:p>
        </p:txBody>
      </p:sp>
      <p:sp>
        <p:nvSpPr>
          <p:cNvPr id="646" name="Rectangle 5"/>
          <p:cNvSpPr/>
          <p:nvPr/>
        </p:nvSpPr>
        <p:spPr>
          <a:xfrm>
            <a:off x="0" y="533520"/>
            <a:ext cx="8915400" cy="1465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M1 TurboIntegrat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rboIntegrator lets you design a process that recognizes the data structure of the source and transforms it into the appropriate structure TM1 needs. Once the TI process is designed, you can re-run it or schedule it to be used when importing data from a dynamic source </a:t>
            </a:r>
            <a:endParaRPr b="0" lang="en-US" sz="1800" spc="-1" strike="noStrike">
              <a:solidFill>
                <a:srgbClr val="000000"/>
              </a:solidFill>
              <a:latin typeface="Arial"/>
            </a:endParaRPr>
          </a:p>
        </p:txBody>
      </p:sp>
      <p:pic>
        <p:nvPicPr>
          <p:cNvPr id="647" name="Picture 8" descr=""/>
          <p:cNvPicPr/>
          <p:nvPr/>
        </p:nvPicPr>
        <p:blipFill>
          <a:blip r:embed="rId1"/>
          <a:stretch/>
        </p:blipFill>
        <p:spPr>
          <a:xfrm>
            <a:off x="228600" y="2057400"/>
            <a:ext cx="8686800" cy="42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50" name="Rectangle 4"/>
          <p:cNvSpPr/>
          <p:nvPr/>
        </p:nvSpPr>
        <p:spPr>
          <a:xfrm>
            <a:off x="3336840" y="151560"/>
            <a:ext cx="2076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M1 Tools</a:t>
            </a:r>
            <a:endParaRPr b="0" lang="en-US" sz="3000" spc="-1" strike="noStrike">
              <a:solidFill>
                <a:srgbClr val="000000"/>
              </a:solidFill>
              <a:latin typeface="Arial"/>
            </a:endParaRPr>
          </a:p>
        </p:txBody>
      </p:sp>
      <p:sp>
        <p:nvSpPr>
          <p:cNvPr id="651" name="Rectangle 5"/>
          <p:cNvSpPr/>
          <p:nvPr/>
        </p:nvSpPr>
        <p:spPr>
          <a:xfrm>
            <a:off x="380880" y="914040"/>
            <a:ext cx="8534520" cy="9169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1 Perspectiv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M1's Excel Add-in client application.  In TM1 Perspective, you can create, manage, and edit TM1 databases and related objects.</a:t>
            </a:r>
            <a:endParaRPr b="0" lang="en-US" sz="1800" spc="-1" strike="noStrike">
              <a:solidFill>
                <a:srgbClr val="000000"/>
              </a:solidFill>
              <a:latin typeface="Arial"/>
            </a:endParaRPr>
          </a:p>
        </p:txBody>
      </p:sp>
      <p:pic>
        <p:nvPicPr>
          <p:cNvPr id="652" name="Picture 6" descr=""/>
          <p:cNvPicPr/>
          <p:nvPr/>
        </p:nvPicPr>
        <p:blipFill>
          <a:blip r:embed="rId1"/>
          <a:stretch/>
        </p:blipFill>
        <p:spPr>
          <a:xfrm>
            <a:off x="228600" y="1981080"/>
            <a:ext cx="8686800" cy="43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4:04:34Z</dcterms:created>
  <dc:creator>180439</dc:creator>
  <dc:description/>
  <dc:language>en-US</dc:language>
  <cp:lastModifiedBy>Administrator</cp:lastModifiedBy>
  <dcterms:modified xsi:type="dcterms:W3CDTF">2013-01-04T08:21:06Z</dcterms:modified>
  <cp:revision>64</cp:revision>
  <dc:subject/>
  <dc:title>Slide 1</dc:title>
</cp:coreProperties>
</file>